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3FA-96CB-4775-AD85-95B70A92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706-B70E-4DA9-8CD9-18450976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F9C-7086-4AEC-ADDC-EF90BF6B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28A-79B1-42CE-9576-AFC44E58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AED-4E14-435A-B16F-EF84986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596-2742-40AD-948A-CB18907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D9D-4032-48DD-9548-9FB2764F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198-9A06-4A2D-9067-9F6FFAF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208-49DB-48F1-8D5D-2F64A483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DF6-C6C0-403D-94B9-A93AE24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1C7-B9C9-41AB-8507-C9DE084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078-99AE-4E0B-901B-1F8593B5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1F1-CC1E-4DFE-8B1A-EE4A0D4D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601992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-T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test is to help the participant know where he/she stands at the end of the co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 What are three occupational hazards associated with handling infectious waste, disinfecting contaminated surfaces, and responding to infectious materials inciden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at is TB? ____________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 The risk of getting TB on the job is higher for hospital housekeepers than nurses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 Reporting a needlestick injury is not important and it might get you into trouble with your b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.  Gloves have small holes, and bacteria can get into your hands even if you wear them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572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:____________________Date: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6172200" cy="83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.  Where is pathological waste found in the health care facil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  Pathological waste is the only type of infectious waste that needs to be incinerated to protect the public heal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.  Why are medical waste incinerators a danger to public heal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9.  Name four ways a hospital can reduce the amount of infectious waste it sends to incinerators for dispos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.  There is a fungus that lives in dust that can make patients sick and possibly die from inf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.  What is V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6248160" cy="80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2.  VRE can live on hospital surfaces for many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3.  You do not have to change the mop water after cleaning an isolation ro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4.  What are some things you can do to improve the way you clea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.  Where can you find a Material Safety Data Sheet at your health care facility for the product that you use to disinfect surfac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6.  What are some things that you can do to reduce your chances of getting stuck by a need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7.  It is okay for an environmental services professional to clean up a mercury spi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6248160" cy="58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8.  Regulated medical waste is a hazardous mate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.  Regulated medical wastes are considered infectious and must be managed with c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.  Anyone who prepares untreated regulated medical waste for shipment and disposal off-site must be trained and tested on three subject areas according to federal reg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1.  If infectious waste is treated on-site at the health care facility, it is no longer a hazardous material and it can be shipped off-site for disposal without any special packaging or labe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2.  If untreated regulated medical waste or infectious waste ends up at a transfer station or landfill, the health care facility will be fined a lot of mon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rcle one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4:02:55Z</dcterms:created>
  <dc:creator>Renee Dufault</dc:creator>
  <dc:description/>
  <dc:language>en-US</dc:language>
  <cp:lastModifiedBy>OC</cp:lastModifiedBy>
  <dcterms:modified xsi:type="dcterms:W3CDTF">2002-05-08T19:00:34Z</dcterms:modified>
  <cp:revision>4</cp:revision>
  <dc:subject/>
  <dc:title>No Slide Title</dc:title>
</cp:coreProperties>
</file>