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0AFC-69DF-4075-B5C2-0C2A8E7ED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FBA4-141E-4C90-96BA-68E83E75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C3F-AB74-4FD7-B91B-FB22BEDBC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B81-1B1C-4D27-A093-560360088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7C0A-F9B7-455F-9139-5D79B8D2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93F7-5772-4BA2-9AA7-ECEA593E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C00-C7C7-4C07-BCE1-8F990E75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7FA-CF2E-4787-9952-89F85A2C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4142-38EE-4D6F-8F8F-E3D91B19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D002-85ED-441F-8CCE-1760AD71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BEB9-DA63-4F21-8953-DB5C06BE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6D02-96FC-46C7-808F-0F75D20A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220F-81CC-4BB8-99EA-7502F8FD4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295280"/>
            <a:ext cx="6019920" cy="65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amen post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ste examen tiene como objetivo ayudar al participante a saber lo que ha aprendi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¿Cuáles son los tres riesgos ocupacionales relacionados con el manejo de desechos infecciosos, desinfección de superficies contaminadas y respuesta ante incidentes de materiales infeccios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¿Qué significa TB?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____________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l riesgo de contraer 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tuberculosis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n el trabajo es mayor para los empleados de limpieza del hospital que para las enfermeras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Reportar un piquete de aguja no es importante y puede meterse en problemas con su je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s guantes tienen hoyos pequeños y aunque los use, las bacterias pueden llegar a sus manos.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2680" y="45720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mbre:__________________Fecha:_________________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228600"/>
            <a:ext cx="6172200" cy="74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6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¿En qué parte de un hospital se encuentran los desechos patológic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s desechos patológicos son el único tipo de desechos infecciosos que deben ser incinerados para proteger la salud del públic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¿Por qué son un peligro para la salud pública los incineradores de desechos médic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____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encione cuatro formas en las que un hospital puede reducir la cantidad de desechos infecciosos que envía a los incineradores para su elimin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0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xiste un hongo que vive en el polvo y que provoca malestares en los pacientes y pueden morir de una infec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1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¿Qué significa ERV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920" y="304920"/>
            <a:ext cx="6248160" cy="68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2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l ERV puede vivir en las superficies de los muebles de un hospital durante varios dí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3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 tiene que cambiar el agua del trapeador después de limpiar una habitación aislad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4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¿Qué cosas puede hacer para mejorar la forma en que limpi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5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¿En que parte del hospital donde trabaja puede encontrar una hoja de datos de seguridad del producto que utiliza para desifectar superficies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</a:t>
            </a:r>
            <a:r>
              <a:rPr b="0" lang="es-MX" sz="1400" spc="-1" strike="noStrike">
                <a:solidFill>
                  <a:srgbClr val="000000"/>
                </a:solidFill>
                <a:latin typeface="Tahoma"/>
              </a:rPr>
              <a:t>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6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¿Qué puede hacer para reducir la probabilidad de picarse con una aguja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7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s correcto que un profesional en desinfección y limpieza limpie un derrame de mercur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04920"/>
            <a:ext cx="6248160" cy="49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8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s desechos médicos regulados son un material peligro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9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os desechos médicos regulados son considerados como infecciosos y deben ser manejados con cuid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0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ualquier persona que prepare desechos médicos regulados no tratados para su embarque y eliminación debe estar capacitado y someterse a un examen sobre tres áreas de acuerdo con los reglamentos federa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1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 los desechos infecciosos son tratados en el hospital, dejan de ser un material peligroso y pueden ser embarcado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para su eliminación sin ningún tipo de empaque o etiquetado espe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2.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 los desechos médicos regulados no tratados o los desechos infecciosos van a parar a una estación de transferencia o relleno sanitario, el hospital tendrá que pagar mucho dinero en mul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ncierre en un círculo su respuesta: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erdadero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14:02:55Z</dcterms:created>
  <dc:creator>Renee Dufault</dc:creator>
  <dc:description/>
  <dc:language>en-US</dc:language>
  <cp:lastModifiedBy>Francisco Reséndiz González</cp:lastModifiedBy>
  <dcterms:modified xsi:type="dcterms:W3CDTF">2002-06-20T02:27:12Z</dcterms:modified>
  <cp:revision>8</cp:revision>
  <dc:subject/>
  <dc:title>No Slide Title</dc:title>
</cp:coreProperties>
</file>